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FF2251-844F-46B2-820A-1D2FA57C78B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0E0114-268A-48B9-BCE1-5563773BA4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317582-91B0-4516-9376-05DB7200CD2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10708F-1F66-4BCF-AF2D-9504C70E91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13EEC7-ADAA-4FF1-B25A-4DE50A4386B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72C17-4AB6-4FBA-8A8B-04D50120173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D5FFBF-7F40-46F2-8A20-F59A9E587B5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A9C307-9898-4721-84BF-DAEBBBB197D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959B41-63D5-4ADA-B3D6-3FA4AE89F8C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AD757-83AD-483C-B918-4254ACB4D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8A9B0-6BF2-45CA-AC24-6B95EDB2026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64A76-3A77-460A-A782-3F6CBD888F0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F2694-F7C8-4657-9028-E569D687A53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E81F-0899-48CB-BB3B-8C3E6E5EEC3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21E57-25B3-477F-8A9F-273923E23FE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7C8C8-9F6C-48C9-AF29-801999B1032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F5187-F282-41A8-8338-150EC9B29C2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679E6-C27B-48C1-80B7-DCF6756A20F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C6365-62A5-4C10-B83F-C768B3C09E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5F624-3633-44CC-803C-88733D25E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E1FEB-CB7C-40E1-A759-3D82FA17D17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15418-5CD1-4DC2-9FCF-37848B9B5FD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F1315-79F1-44F6-B28F-FDF19F47177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4D4AF-1D71-4D24-8104-289EF7286A7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63195-8362-4E36-8894-222AE455A02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103FF8-DE75-479C-94DF-C09E03DBBA3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0A69F-A7C1-4B49-A6E3-5846400B599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DB58AB-3C44-411B-8918-034800851AC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63E4DC-4DA8-494F-839F-BB303856FB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21503-FE83-4A13-8AAC-EBFDEE6FD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31C6-24F8-4300-842C-304D4BB5A57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E00EB9-6EC5-447A-8342-86536B44BD8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0E8B7-CF1A-41FA-A00C-F92C7818DC3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B7BA7-D65B-495C-B0A2-D26B699E19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83FE-7FAA-4BBF-A211-A94F73932A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8B3A-EFB0-4C82-B776-EAAE475C93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C3A7-2BF7-4E02-8838-5DF9530D23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5B9A-DFD3-47AF-8FBD-CE7A19031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FC8C-F4F0-455B-931D-9F5D3F028D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FAE5-B6D0-4F0F-B02B-59C6F2DC1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BA4D-7F54-49A6-A8E8-6ADF455994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6786-0EEF-49AD-84AB-C57D83C047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1835-1960-4070-A9E2-C25F4ADDC8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1664-03E9-48EF-A044-0075B616F5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3CE7-24D2-4C6E-BF22-806D2C202C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1087A-9C49-498C-BA8C-3DE18803C7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C9251-D2FB-4042-A36B-07AD839783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73FF8-A68A-4F3F-9E4F-DD2D017BE2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DB339-A5F9-4E22-807C-25E0D62E83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32537-D026-4F7F-A977-2A0E14825A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E1A93-B2EC-4B59-A7EA-0CE2B8B598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E62B8-05E0-4079-958A-DAB8101B82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56835-6C19-43D9-B71B-69EAB6056B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59386-44E1-4C59-B472-DE742A1F7B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ECB33-39D2-4517-9893-81072E13DF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D3FE8-F16E-4510-B1E5-2014631BEE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39A03-EC00-4D5E-A6A0-C2045BEAD1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DB90-C783-4B13-BDAC-67092CE7A7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AD4B-62BC-47D4-9D50-8065848503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8F19-9037-4387-A75C-BFBBA0A92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E644-3702-499D-A200-7FC16C7C31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8E2A-B624-4F9C-B802-C3EE07052E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3A70-E642-41B8-93C8-4DFD496852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1187-22A2-4AE8-9138-110274ACF1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EFB5-DCF3-460B-B8D5-BF90425C70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DE2A-3651-4965-96C5-811E9313A1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F448-487E-4F58-9513-B5BE8B882B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235F-B53D-41B9-A675-B0BFD81A84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0ED2-6E28-482C-9B38-F75D900845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FE4F1-142E-4972-A7C1-14EEF9F33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3D633-ECB0-48AC-B52A-7078383AA7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9C003-7EF4-4190-B2B0-51B9F0D0916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D1A13-E685-4525-B63E-0F226C3EE4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22D8E-47BA-4FA4-9467-75286205D04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58567-23D4-4DD2-90E3-76300405D2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E9A62-6E40-44B3-B299-DCE06A5BBA6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35813-AB1A-4010-AA99-C447C24717E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FFB29-AC30-4798-A90D-065B9F87A54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5BE1B-A64D-4586-B3B1-5025380F575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EB067-F99D-44CF-B143-757F990BB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F4570-B1F9-4497-9581-B85DF9460F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76F3B-BAF6-4369-A8CB-E929530EE70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A878F-A231-41B9-BB4E-8988AAA507F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B055A-F6D7-42FF-808F-895733C8926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1E7C0-5591-4649-900C-09C9959DD8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4EC73-BA9F-4D45-A8B4-6DCAF7B589B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F9027-A974-464E-8CE9-938202E7CB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C37F0-0B48-4A41-BCA4-3F3FB2E242D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95FAF-5FF2-4C8C-A5BE-570F39A6694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5AE890-58E2-4C40-9026-8577AB873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3A1FD-DAED-4765-807B-97A1DE870B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8B0F4-B9E2-49E1-BBAD-2B5C7B61FF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B6BC9-7FEF-4338-A6D3-36A7570CC8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E7E60-123F-4AAD-8C48-36E41740847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B55C4-F9B2-44D7-9FAB-FBFF324971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2BA66-13CF-48DA-A996-5EE14985EE6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9A7E0-F65D-41E3-986B-4795AC96093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5618-CF29-46F1-95C3-1F4B4859151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1964-9349-4A70-8580-C58D6104E2B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3E50-2F7D-4182-B893-B88B47BDE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BB4F5-099E-4E7B-A62B-70E7F431E8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352F-5176-48FD-9D54-7E2F8C2F8A1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F5C3-705D-4669-9BBB-2E607B49C8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CA2EA-749B-4389-8AD8-3F00B3EB7FE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28FDF-2D79-4E86-BC72-34A14B10036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88E10-DDBB-4A98-9496-ECEFA24A92C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C5E00-30BE-45AD-AD00-8CFBB634B0F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8B070-0A3D-4DD7-846F-51564AF8A0F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FCAA3-B1BD-469E-ACCF-3030BADA5BF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F7501-F60B-4DAA-A39A-D244174F4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3E71E-044B-4FF3-A107-4DEDAF208E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E7297-58FF-4823-90B9-3CB748390EC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F55DD-DB41-4742-846C-23A7173A347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062A3-B1F1-4D56-82ED-99FB98D86CF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35616-C155-4004-BF53-D101A50CCD2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EF8FF-B66D-4EA7-8D5E-56501DA4D7A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5A7F0-6981-4B4F-993F-08E850C1918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E7890-DEA8-424A-91E3-DB6317F5180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194A16-5C02-4840-9A4D-4C60601E61B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602338-0BFE-452A-B294-539C524B2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ftr" idx="1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1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CA1E-09C0-4E59-9A21-6A3F89278B5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ftr" idx="1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2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17E4-6DDB-48A5-B729-A1242B6F1D79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ftr" idx="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6BCB-3DD8-4D49-934C-3E7A455F6F3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ftr" idx="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49C1-8A50-4B41-8813-34D3DC84E93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ftr" idx="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1333-4B70-439E-B39A-5DC6926C898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ftr" idx="7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8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49A8-C6DB-494B-B2B3-01AC3077C18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ftr" idx="9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0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A610-E972-4AD8-9BCD-F65CBF6839B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12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B5FC-6ECD-4E5F-9506-DA0EE8CA56A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ftr" idx="13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14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FD70-C1F7-4B2D-99B2-30A5A1EC6DC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46"/>
          <p:cNvSpPr/>
          <p:nvPr/>
        </p:nvSpPr>
        <p:spPr>
          <a:xfrm>
            <a:off x="0" y="6578640"/>
            <a:ext cx="9144000" cy="304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0"/>
            <a:ext cx="9313920" cy="830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2"/>
          <a:srcRect l="0" t="0" r="0" b="20622"/>
          <a:stretch/>
        </p:blipFill>
        <p:spPr>
          <a:xfrm>
            <a:off x="-227160" y="-19080"/>
            <a:ext cx="1089000" cy="851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ftr" idx="15"/>
          </p:nvPr>
        </p:nvSpPr>
        <p:spPr>
          <a:xfrm>
            <a:off x="12600" y="6590880"/>
            <a:ext cx="5562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zione test ammissione facoltà architettura e design a.a.06707presentazione test di ammissione alle faco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 di architettura – a.a.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6"/>
          </p:nvPr>
        </p:nvSpPr>
        <p:spPr>
          <a:xfrm>
            <a:off x="6972120" y="64008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B861-2212-4D80-BC97-4D21A82B805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539640" y="134136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: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Design of systems for healthca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cente: Prof. Giuseppe Andreon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mestre: 1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gua di erogazione: italian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° max studenti ammessi: 120 Polimi + 10 Erasmu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alità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ame per non frequentanti: 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539640" y="378936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La salute rappresenta per tutti un valore primario. Lo sviluppo delle tecnologie e le loro ricadute nel settore medicale offre oggi un’ampia serie di soluzioni per la diagnosi precoce e il trattamento efficace di molte patologie. Si sta affermando anche il concetto di qualità della cura: non è più sufficiente avere a disposizione diagnosi e terapie avanzate ma diventano indispensabili il benessere, il piacere e il comfort quali elementi che contribuiscono ad una qualità di vita ottimale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3"/>
          <p:cNvSpPr/>
          <p:nvPr/>
        </p:nvSpPr>
        <p:spPr>
          <a:xfrm>
            <a:off x="989640" y="1587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orsi a scelta di Area Scientifico-Tecnologic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788000" y="6583320"/>
            <a:ext cx="43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esentazione Corsi a scelta I Livello – 5 settembre '14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468360" y="1268280"/>
            <a:ext cx="835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Il corso si propone di fornire agli studenti fondamenti e competenze (metodologie e tecnologie) per la misura di grandezze e segnali fisiologici per applicazioni relative allo sport, al fitness, e cliniche, che sono propedeutiche al design di dispositivi biomedicali. Si partirà da una descrizione dell'anatomia e fisiologia dell'uomo per comprendere quali segnali di interesse e le tecnologie corrispondenti da utilizzare per sviluppare dispositivi e prodotti per l'healthcare. Antropometria ed Ergonomia saranno la base metodologica e di dati di riferimento per il progett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Il corso ha una connotazione tecnico-metodologica compatibile con la preparazione pregressa degli studenti e per una migliore comprensione si attueranno - ove possibile - visite presso strutture cliniche (ospedali e laboratori) ove verranno dimostrati i dispositivi e le applicazioni cliniche e di ricerca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3:48:10Z</dcterms:created>
  <dc:creator>Silvia</dc:creator>
  <dc:description/>
  <dc:language>en-US</dc:language>
  <cp:lastModifiedBy>g</cp:lastModifiedBy>
  <cp:lastPrinted>2003-05-08T11:08:41Z</cp:lastPrinted>
  <dcterms:modified xsi:type="dcterms:W3CDTF">2014-07-30T07:20:36Z</dcterms:modified>
  <cp:revision>208</cp:revision>
  <dc:subject/>
  <dc:title>Inserire immagine della locandina, possibilmente in trasparenza e aggiungere Facoltà di Architettura Illustrazione prova di ammissione prof. Silvia Piardi (idem Cedolin)</dc:title>
</cp:coreProperties>
</file>